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47A-A4D3-49DA-9A03-08672A19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812-D7B8-4AA2-96D4-CE5CD83C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3D1-6F7C-465C-817C-DBB065C4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28A-20DF-4B14-9D1E-FCF8E4EB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541-2546-4D60-B585-2A2BCEC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2CE-DECE-4EB5-BA1F-B7E3D0A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9E2-A81A-4FF2-A7F2-059AEC3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208-1448-42A1-B54C-94057A3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39F3-07B1-4CC6-9E56-57EDADB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89C-C010-4494-B9CD-AF509B3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6B10-4381-4954-8453-C180243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687-9E29-456B-ABDC-E056ADB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B26E-5D1D-442B-9093-0600013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482B-C339-4BB4-A02A-BB67114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F6E-C419-432E-A1C1-2617A4C1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968A-BDEF-45FE-BBD0-37079558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2762-CDB7-4CB1-A377-A15D8AD0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5755-A62B-49B8-B825-D06DD925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4480-40C8-48B0-A196-C9741D7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C288-12FA-42C2-BA91-1729993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6EA9-BDEC-42AC-891E-BD1AF2D1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E060-B77D-4D3E-AE06-C4991A5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64B-856C-41D7-AE8D-A8F09FC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C300-5145-4BFC-8E19-1815C1A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67BF-DFF5-4409-8BBC-71BAEAE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03DD-FB73-454F-AEA4-BD752B27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E3E0-1ED2-4649-93E7-DD151B3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DFC9-A7B0-42D7-BA39-FE8733F5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DD81-1E03-409D-AAD3-6F96C93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E241-126B-4291-8143-6BAEDEA3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63F1-5A7E-4113-A2EF-9424D720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1AA4-D9A7-413A-98EE-D00F925E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E11E-181A-4EF4-9811-327A0BC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F34-A92E-4A9B-B9B0-B4B32AA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393C-B7D7-4658-BD94-A5DB45ED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802A-FFD9-46E5-B931-BDCF86D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3BFE-4610-467E-9B66-830CA17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45E3-6A70-40E1-BB5A-D182BB7B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C3EF-AC1B-4E8A-927B-875C240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6BC7-2C04-46FA-9D4B-A38EE63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162D-034D-410A-9B6D-AFF975B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E77C-80E3-430C-B3A5-161F4942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3D0B-823D-42C9-85C6-5B2380CE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B1D-D333-4B04-8480-8D28715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8C2-CDAE-46E3-BBEA-7B23F968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726-11F8-4F01-992D-E1F23E23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DE7-E2DA-47C0-88A3-22192C1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047-1997-40D9-BF4A-1D0E0DA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4B7-D476-4BAC-96E4-54D82FD844E4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5A07-641D-4020-AE14-EBAAED8E2ACD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E55-213C-4B38-B6BE-DC9C3C4A4601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5E4A-BED4-48A0-8CDC-8311E262A85B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teach.co.uk/index.php/search/results?curr_id=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mnh.org/sciencebulletins/biobulletin/biobulletin/story996.html" TargetMode="External"/><Relationship Id="rId2" Type="http://schemas.openxmlformats.org/officeDocument/2006/relationships/hyperlink" Target="http://commtechlab.msu.edu/sites/dlc-me/zoo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xpeditions/lessons/14/g912/whom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netlinks.com/sci_update.cfm?DocID=53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images.google.com/imgres?imgurl=http://static.howstuffworks.com/gif/ocean-current-1.jpg&amp;imgrefurl=http://science.howstuffworks.com/ocean-current.htm&amp;h=317&amp;w=400&amp;sz=25&amp;hl=en&amp;start=33&amp;sig2=WOxvsyYu5jeAtnC0I0wZmw&amp;usg=__AfRGCs_NkqKBmkeer06pnxT4EJk=&amp;tbnid=Co46oZl6RXTtIM:&amp;tbnh=98&amp;tbnw=124&amp;ei=qGkTSev1NI3OeoWG0LgM&amp;prev=/images%3Fq%3Docean%26start%3D20%26gbv%3D2%26ndsp%3D20%26hl%3Den%26safe%3Dactive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saharamet.com/desert/photos/desert2.jpg&amp;imgrefurl=http://www.saharamet.com/desert/photos/photos.html&amp;h=485&amp;w=756&amp;sz=78&amp;hl=en&amp;start=8&amp;sig2=vr0nc68vmVTKnb5jjsHLCg&amp;usg=__LMAM1m0WZxTT3ZRW9xk8QnY3Zgg=&amp;tbnid=pm2sFErRPs1_ZM:&amp;tbnh=91&amp;tbnw=142&amp;ei=yWkTSbeuL46UeoXzjbkM&amp;prev=/images%3Fq%3Ddesert%26gbv%3D2%26hl%3Den%26safe%3Dactiv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cercopan.wildlifedirect.org/files/2008/03/forest.jpg&amp;imgrefurl=http://cercopan.wildlifedirect.org/category/rain-forests/&amp;h=457&amp;w=524&amp;sz=124&amp;hl=en&amp;start=3&amp;sig2=8Zoq2Gq-8PAXqqYGw8UtEw&amp;usg=__-Q9QXFBo9f_XmgsW1xT69AceV2c=&amp;tbnid=U2G2xGmQJsGr9M:&amp;tbnh=115&amp;tbnw=132&amp;ei=G2oTScWZN6XCedHbpLkM&amp;prev=/images%3Fq%3Dforest%26gbv%3D2%26hl%3Den%26safe%3Dactive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xpeditions/lessons/14/g912/whom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Ecosystem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about the basic elements of Ecosystems by watching the video or completing the activities at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yTea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f the link only goes to the main page, copy and paste the following into your URL:   </a:t>
            </a:r>
            <a:r>
              <a:rPr b="0" lang="en-US" sz="800" spc="-1" strike="noStrike">
                <a:solidFill>
                  <a:srgbClr val="000000"/>
                </a:solidFill>
                <a:latin typeface="Constantia"/>
              </a:rPr>
              <a:t>http://www.yteach.com/page.php/resources/view_all?id=biocenosis_biome_biotope_consumer_decomposer_ecology_ecosystem_environment_herbivory_autotroph_chemoautotroph_heat_decomposer_predator_energy_photoautotroph_photosynthesis_matter_individual_population_herbivore&amp;from=search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the website, go to the bottom right hand side of the screen and click on the elephants for a short introduction vide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e the video is complete, click the arrow at the bottom of the screen to contin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46b86"/>
                </a:solidFill>
                <a:latin typeface="Calibri"/>
              </a:rPr>
              <a:t>How do humans survive in different ecosystems?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about the balance between man and microbe at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Bio Bulletin’s Tipping the Sca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 indepth on the different types of microbes at the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Microbe Zo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amnh.org/sciencebulletins/biobulletin/images/web/photos/BB4_wkp_HIV_130000x.JPG"/>
          <p:cNvPicPr/>
          <p:nvPr/>
        </p:nvPicPr>
        <p:blipFill>
          <a:blip r:embed="rId3"/>
          <a:stretch/>
        </p:blipFill>
        <p:spPr>
          <a:xfrm>
            <a:off x="609480" y="3843360"/>
            <a:ext cx="2286000" cy="27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www.amnh.org/sciencebulletins/biobulletin/images/web/photos/BB4_wkp_Malaria_5.300x.jpg"/>
          <p:cNvPicPr/>
          <p:nvPr/>
        </p:nvPicPr>
        <p:blipFill>
          <a:blip r:embed="rId4"/>
          <a:stretch/>
        </p:blipFill>
        <p:spPr>
          <a:xfrm>
            <a:off x="6705720" y="4083120"/>
            <a:ext cx="2019240" cy="2394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www.amnh.org/sciencebulletins/biobulletin/images/web/photos/BB4_kioskpiece_nature.jpg"/>
          <p:cNvPicPr/>
          <p:nvPr/>
        </p:nvPicPr>
        <p:blipFill>
          <a:blip r:embed="rId5"/>
          <a:stretch/>
        </p:blipFill>
        <p:spPr>
          <a:xfrm>
            <a:off x="3352680" y="4343400"/>
            <a:ext cx="271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46b86"/>
                </a:solidFill>
                <a:latin typeface="Calibri"/>
              </a:rPr>
              <a:t>How do changes in an ecosystem change the organisms living in and around it?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the Aral Sea using the links at the bottom of the page provided by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National Geograp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is the lake endanger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you believe will happen to the animals and the people living in and around the lake over ti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this occurring in other parts of the worl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Ships' Cemetry near Aralsk"/>
          <p:cNvPicPr/>
          <p:nvPr/>
        </p:nvPicPr>
        <p:blipFill>
          <a:blip r:embed="rId2"/>
          <a:stretch/>
        </p:blipFill>
        <p:spPr>
          <a:xfrm>
            <a:off x="457200" y="523224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Water Source. "/>
          <p:cNvPicPr/>
          <p:nvPr/>
        </p:nvPicPr>
        <p:blipFill>
          <a:blip r:embed="rId3"/>
          <a:stretch/>
        </p:blipFill>
        <p:spPr>
          <a:xfrm>
            <a:off x="609588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Village Bekaristan Bay - Water source"/>
          <p:cNvPicPr/>
          <p:nvPr/>
        </p:nvPicPr>
        <p:blipFill>
          <a:blip r:embed="rId4"/>
          <a:stretch/>
        </p:blipFill>
        <p:spPr>
          <a:xfrm>
            <a:off x="3276720" y="51814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hanges in Ecosystem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happens when a new species is introduced to an ecosystem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out by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listening to the podcast from Science NetLin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http://www.foejapan.org/en/img_cmn/spacer.gif"/>
          <p:cNvPicPr/>
          <p:nvPr/>
        </p:nvPicPr>
        <p:blipFill>
          <a:blip r:embed="rId2"/>
          <a:stretch/>
        </p:blipFill>
        <p:spPr>
          <a:xfrm>
            <a:off x="0" y="0"/>
            <a:ext cx="9360" cy="47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tbn0.google.com/images?q=tbn:Co46oZl6RXTtIM:http://static.howstuffworks.com/gif/ocean-current-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09960"/>
            <a:ext cx="2590920" cy="2048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bn0.google.com/images?q=tbn:pm2sFErRPs1_ZM:http://www.saharamet.com/desert/photos/desert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53040" y="4876920"/>
            <a:ext cx="309096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tbn0.google.com/images?q=tbn:U2G2xGmQJsGr9M:http://cercopan.wildlifedirect.org/files/2008/03/fores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4267080"/>
            <a:ext cx="2973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al Sea:  What’s Happening to Whom? 2008 National Geographic Society. </a:t>
            </a:r>
            <a:r>
              <a:rPr b="0" lang="en-US" sz="18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http://www.nationalgeographic.com/xpeditions/lessons/14/g912/whom.htm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worm Invaders, 2008, Science Net Links. http://www.sciencenetlinks.com/sci_update.cfm?DocID=53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osystem, 2008, UNIVERSAL Curriculum &amp; yTeachSys. http://www.yteach.co.uk/index.php/search/results?curr_id=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be Zoo, Digital Learning Center for Microbial Biology. http://commtechlab.msu.edu/sites/dlc-me/zoo/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pping the Scale, 2008, Bio Bulletin. http://www.amnh.org/sciencebulletins/biobulletin/biobulletin/story996.html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SO’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iolog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.O.B.2.21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acterize interrelationships of organisms within an ecosystem (e.g., symbiosis, competition, predation, mutualism, parasitism, commensalis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1:29:58Z</dcterms:created>
  <dc:creator>ccsguest</dc:creator>
  <dc:description/>
  <dc:language>en-US</dc:language>
  <cp:lastModifiedBy>Lezlie</cp:lastModifiedBy>
  <dcterms:modified xsi:type="dcterms:W3CDTF">2008-11-15T19:21:18Z</dcterms:modified>
  <cp:revision>12</cp:revision>
  <dc:subject/>
  <dc:title>Slide 1</dc:title>
</cp:coreProperties>
</file>